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dt" idx="31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ftr" idx="32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 type="sldNum" idx="33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4242-727B-445E-B752-4AEA6AC122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738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196B-D27E-4D26-AEE8-F7AA04F0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DD5-5F50-45B5-ACB4-9E4AB261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1CDD3-325A-4FEF-A59F-ABE8359B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91511-D245-4B68-A9AB-681C8F31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8F35D-AB18-4E07-925E-482B404D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99301-6476-436A-A4A0-19E4BE1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80B32-66DE-479B-A527-6E1ABB4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19079-288F-4097-952E-36E79BAF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03AE5-3201-457A-8FF3-39AAE54F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0D589-AF35-47EA-9EBE-31D99605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428B3-9AA1-48ED-A9B1-7651E559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4341E-EA46-4592-940D-9D77A7DB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1CBB-69FC-4C92-A773-F7C61406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8174F-16D7-485C-A144-536A249C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33AF1-0807-4739-9107-A2979739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48B67-042F-4FE5-8DD0-D8775C23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EC2FC-1B01-44A4-A5A2-E2FEB4356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87875-2768-441D-8A11-5A6B8064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AE000-7EE6-4DD1-B6A4-9958E6D5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B5D9A-44EA-495F-B851-1DF8460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A62DC-723A-4FE6-BF9B-055CE18C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4ED1A-55FB-4827-B17C-FC58FCA7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AA4AB6-CFB1-43A0-8EB8-305C60B7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3126-5AC9-4A87-A841-77EF96549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0975F-8682-4892-8747-0B2F259A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CEEC-44E7-48F7-A5FE-3F899C39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8383-D8F0-45B1-9DC7-80D15C88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ECF0-C574-4802-9BBD-D6177209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60CA-784E-46E8-A536-2CDA9633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D50C-5F69-4439-BD38-5B05071D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5BAE-A8DC-497D-93DB-7FBA5FF5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CF4F-56AC-4957-8553-50D5D7B0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314-4809-447D-98FD-ED473A3F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45B6B-F6B3-4BCC-842A-E64F6E52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B497-EB65-4FF4-8DAA-80A95360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06F6-C1B3-421E-A3F2-CFD2F489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54DD-A151-4012-A7B4-B9636F55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E00F-A0A7-4519-8064-B81199E1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7F11C-4FB4-4DF1-B968-F6AB034AF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8F39F-F4A3-44C4-BD84-C37C6319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778D-6FA7-4E48-92B8-D19F02EA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CF1B9-105C-4786-842B-F8840040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970D-69E1-427E-8577-193A67F7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2EC-9EB9-40BD-BCBC-D42D61A3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1AB5-368D-4A5D-8FEF-B06F868C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361D6-9548-4489-AC12-DD704AC0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EFE8-788F-4597-BFEE-4DDD8113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1A1E-9AB0-416F-A87A-F70859DC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9E009-D20F-4AB7-B70C-DAAEDBBE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6A10-56B7-4736-BE37-96DB2589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0C801-D12B-4C9F-9938-C30CDE63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E6B50-087B-4CBC-99D6-F1FC35DC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52857-87E2-4F07-A1B3-8CF2D634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113A2-DD37-455D-A249-43521A36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FC5-BFEB-4DDF-B62B-9EBADB78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ADDD0-C7E6-4E23-B5ED-B54B6276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9F10-997A-4533-9FDA-77AC1B54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EA1B5-6313-48E9-8E1C-FF5A86FA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E8707-9156-43AB-BF4B-C6959562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02AD0-0B50-4CFB-987E-BF39FDBC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B73AA-C2BC-4EA0-85A0-39AAF5F2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B02D-7EB8-4977-9FF0-C41F9F46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B7B6F-9B79-4C5A-BD50-01240ACD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91328-E182-4AA0-8EAB-60B64DAC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1C6B-1A30-4A84-AEFB-3BF4429A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0B4E-EBED-4A4A-AEF4-944B5839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5F9DF-9527-4CA0-9B15-E3EB57AA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10D49-303D-4AFB-A4BA-79B38E7D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4FA44-B396-43A3-8B83-AEBEFE5B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0CE67-F4B1-45E9-973F-8CE6BAE1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7ADD-604C-4CF9-8FDA-130968E7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0AAED-2B88-4E94-AC26-1D85C56C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4C334-9848-4DE8-A589-CCFB0C2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27C4-B22A-4E1C-A2AF-D7E74CE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2D496-D2EC-4466-B2B5-D8ADEC2E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A4EA4-A3AA-4394-A8EA-9126C35B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74E-937E-48FA-9F29-9DDB8DFF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B438C-BFD7-4BC2-8B0D-598A97B9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F2E7-F68C-4398-86AF-B3A85343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A907A-F385-45AF-9C9A-3D5221E4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04CF8-EAD1-4F54-AAED-EB53C7EB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F2B6C-9BB1-4411-A1A4-CE15B8CC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B3F39-42D8-4907-A3E6-50719A76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AE796-8118-4CFC-A638-CA8697DE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2A503-5890-4466-AE23-2A4A6EE9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1187-2133-490B-9C41-F5785EA3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801A2-86E7-4C4C-B708-7FA955B9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739D-B776-40B5-AD57-C47BE89F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3B7C5-8BB7-4B49-86BE-8E1C383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91269-6E30-41DB-AB9D-2BE02946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019F-DEE8-4E08-8377-165C2DFD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8A833-9DB5-40C1-9350-786D654C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3264E-3801-46EF-A7FE-C0824D3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8C865-C654-4C17-8515-5DA0582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8874E-5779-402A-B460-873D4475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AE3E-4FC0-4421-9BFF-0A0237C7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198A7-E143-49F3-9C31-57C4B63B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CAC82-FE3B-4D2E-A566-B303450F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9C7-7834-45BD-BAEB-56394BD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2281A-055A-4112-BA03-EBB5240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3E598-1303-4296-AF39-118FC65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F7142-3A0C-42B1-9A31-B8CBF14D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5AA85-B22B-4F83-BD05-58573621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398AB-47FF-438A-9D8F-600157BC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8755E-E82D-433E-8A90-7A9D8863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1AB55-E3FE-4852-8C51-DE54A950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FED3D-6BC5-4C90-A66C-654DE77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D9B86-C506-44E3-A9E8-E57A13A7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E19B1-5920-4F0F-8B79-C2ABAEC22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C45-F823-4877-83BA-5C86C130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1197E-966B-46EA-889C-6F9A0BCB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96180-8FED-4FC9-8121-F6A977D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0768C-59B0-46CE-9D09-DFA6DCFB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386CC-E0B0-4629-BB14-55715549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7B553-8D05-4D21-90CC-3D8E9B90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37079-B7EE-466B-AAA2-81BEE8EAC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58BD8-0193-4E12-A844-27EF6962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4F08A-5AF8-4325-8845-D0A699A2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362D3-A84B-4428-826A-C1F3D440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F59DE-6AE1-4888-B574-B0BB31DC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2958-C354-4A72-8904-D68E4AFDC5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F81C-9A84-4A76-A440-6A6707F70F1B}" type="slidenum"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F347-603F-4961-A1EB-9B39D21EF7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B22C-6823-4209-91A4-B969CCFE29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0CB9-8DC2-4D6F-9D98-1DF54A3B17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F639-9BF7-4351-981A-464A32A091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EF82-75BB-4F1C-B4A6-236D7AFE1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3876-95D1-4AD8-A49B-28321E61FF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CFA8-34D9-4DAB-904C-236FE4232D6C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9" name="Rectangle 3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330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331" name="Picture 5" descr="URBBANND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6C1A-5AAE-4776-94E3-7DDFCFDE115D}" type="slidenum">
              <a:rPr b="0" lang="en-US" sz="1400" spc="-1" strike="noStrike">
                <a:solidFill>
                  <a:srgbClr val="ff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2050920" y="2133720"/>
            <a:ext cx="48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孟子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两章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324000" y="442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释重点字词并翻译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324000" y="561960"/>
            <a:ext cx="860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天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地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地利不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人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三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七里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攻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胜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夫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攻之，必有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时者矣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然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胜者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时不如地利也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城非不高也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不深也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兵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非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坚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，米粟非不多也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，是地利不如人和也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民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封疆之界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固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溪之险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下不以兵革之利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得道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者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多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失道者寡助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寡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亲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之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多助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至，天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顺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下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顺，攻亲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故君子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</a:rPr>
              <a:t>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战，战必胜矣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“以”字的用法，不相同的一项是（        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固国不以山溪之险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以天下之所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寡人以五百里之地易安陵（《唐雎不辱使命》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属予作文以记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翻译句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1280" y="14032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天时不如地利，地利不如人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里之城，七里之郭，环而攻之而不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域民不以封疆之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固国不以山溪之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威天下不以兵革之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天下之所顺，攻亲戚之所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学习本文开头提出论点后逐层论证的写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说出文中“道”指代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用自己的话说说“得道多助”的时代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2"/>
          <p:cNvSpPr/>
          <p:nvPr/>
        </p:nvSpPr>
        <p:spPr>
          <a:xfrm>
            <a:off x="2197800" y="911160"/>
            <a:ext cx="489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道是什么？它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人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何关系？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2158560" y="2381400"/>
            <a:ext cx="450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道”即指仁政。“得道”就是施行仁政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施行仁政则“多助”，“多助”则“天下顺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”，这就是“人和”，即得到人民的支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持和拥护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0" y="0"/>
          <a:ext cx="9747360" cy="7343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747360" cy="73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Rectangle 3"/>
          <p:cNvSpPr/>
          <p:nvPr/>
        </p:nvSpPr>
        <p:spPr>
          <a:xfrm>
            <a:off x="0" y="190512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本文的中心论点是什么？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2286000"/>
            <a:ext cx="79246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天时不如地利，地利不如人和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孟子提出三个概念：天时、地利、人和，并将这三者加以比较，层层推进。用两个“不如”强调了“人和”的重要性。三者之间的比较，实质上是重在前者与后者的比较，强调指出各种客观及诸多因素在战争中都比不上人的主观条件及“人和”的因素，决定战争胜负的是人而不是物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50840" y="223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1960920" y="4777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论点：天时不如地利，地利不如人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1057680" y="2057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论据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67080" y="1644480"/>
            <a:ext cx="64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宋体"/>
              </a:rPr>
              <a:t>{</a:t>
            </a:r>
            <a:endParaRPr b="0" lang="en-US" sz="9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42928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进攻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3154320" y="1874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416124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天时不如地利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79" name="Text Box 8"/>
          <p:cNvSpPr/>
          <p:nvPr/>
        </p:nvSpPr>
        <p:spPr>
          <a:xfrm>
            <a:off x="2429280" y="24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防御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0" name="Text Box 9"/>
          <p:cNvSpPr/>
          <p:nvPr/>
        </p:nvSpPr>
        <p:spPr>
          <a:xfrm>
            <a:off x="3257640" y="2498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——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4237560" y="243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地利不如人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2" name="Text Box 11"/>
          <p:cNvSpPr/>
          <p:nvPr/>
        </p:nvSpPr>
        <p:spPr>
          <a:xfrm>
            <a:off x="1014480" y="1151280"/>
            <a:ext cx="100332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</a:rPr>
              <a:t>→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1047960" y="26668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</a:rPr>
              <a:t>↓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1057680" y="3809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类推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1600200" y="3200400"/>
            <a:ext cx="94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宋体"/>
              </a:rPr>
              <a:t>{</a:t>
            </a:r>
            <a:endParaRPr b="0" lang="en-US" sz="9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5866200" y="1523880"/>
            <a:ext cx="64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宋体"/>
              </a:rPr>
              <a:t>}</a:t>
            </a:r>
            <a:endParaRPr b="0" lang="en-US" sz="9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6831720" y="217476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战争需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人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8" name="Text Box 17"/>
          <p:cNvSpPr/>
          <p:nvPr/>
        </p:nvSpPr>
        <p:spPr>
          <a:xfrm>
            <a:off x="2455920" y="32925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域民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9" name="Text Box 18"/>
          <p:cNvSpPr/>
          <p:nvPr/>
        </p:nvSpPr>
        <p:spPr>
          <a:xfrm>
            <a:off x="2565720" y="390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固国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257652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威天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100400" y="385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——————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2" name="Text Box 21"/>
          <p:cNvSpPr/>
          <p:nvPr/>
        </p:nvSpPr>
        <p:spPr>
          <a:xfrm>
            <a:off x="6831720" y="3851280"/>
            <a:ext cx="17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治国需要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人和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3" name="Text Box 22"/>
          <p:cNvSpPr/>
          <p:nvPr/>
        </p:nvSpPr>
        <p:spPr>
          <a:xfrm>
            <a:off x="1047960" y="4495680"/>
            <a:ext cx="75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</a:rPr>
              <a:t>↓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4" name="Text Box 23"/>
          <p:cNvSpPr/>
          <p:nvPr/>
        </p:nvSpPr>
        <p:spPr>
          <a:xfrm>
            <a:off x="1194120" y="5486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结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5" name="Text Box 24"/>
          <p:cNvSpPr/>
          <p:nvPr/>
        </p:nvSpPr>
        <p:spPr>
          <a:xfrm>
            <a:off x="2193840" y="548640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得道多助，失道寡助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1194480" y="380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隶书"/>
                <a:ea typeface="隶书"/>
              </a:rPr>
              <a:t>品味孟子语言特色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7" name="Text Box 3"/>
          <p:cNvSpPr/>
          <p:nvPr/>
        </p:nvSpPr>
        <p:spPr>
          <a:xfrm>
            <a:off x="2103840" y="131904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文章的第三段运用什么句式？有什么表达效果？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380880" y="2362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685800" y="32767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文章第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段运用什么句式？有什么效果？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0" name="Text Box 6"/>
          <p:cNvSpPr/>
          <p:nvPr/>
        </p:nvSpPr>
        <p:spPr>
          <a:xfrm>
            <a:off x="2240280" y="3987720"/>
            <a:ext cx="4317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排比句，再次强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对比手法，把“得道者”与“失道者”的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果进行对比，点明文章主旨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316600" y="2101680"/>
            <a:ext cx="46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归纳；运用双重否定排比句，起肯定、加强语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势的作用，极言防御一方地理条件的优越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1347120" y="522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拓展延伸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098160" y="1824120"/>
            <a:ext cx="233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、从古至今有哪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得道多助，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失道寡助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例子？举例反思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651480" y="3276720"/>
            <a:ext cx="18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、结合《政治》，《历史》说说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如何保证我国安定团结的政治局面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6" name="雍正王朝.wma" descr=""/>
          <p:cNvPicPr/>
          <p:nvPr/>
        </p:nvPicPr>
        <p:blipFill>
          <a:blip r:embed="rId2"/>
          <a:stretch/>
        </p:blipFill>
        <p:spPr>
          <a:xfrm>
            <a:off x="7010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4"/>
          <p:cNvSpPr/>
          <p:nvPr/>
        </p:nvSpPr>
        <p:spPr>
          <a:xfrm>
            <a:off x="1651680" y="426960"/>
            <a:ext cx="2619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数英雄论成败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古今谁能说明白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千秋功罪任评说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海雨天风独往来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一心要江山图治垂青史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也难说身后骂名滚滚来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有道是人间万苦人最苦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终不悔九死落尘埃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有道是得民心者得天下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看江山由谁来主宰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行楷"/>
              </a:rPr>
              <a:t>得民心者得天下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看江山由谁来主宰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5220720" y="379440"/>
            <a:ext cx="254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电视剧《雍正王朝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题曲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" fill="hold"/>
                                        <p:tgtEl>
                                          <p:spTgt spid="5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54080" y="155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简介：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2556000" y="907920"/>
            <a:ext cx="61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孟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约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72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89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，名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轲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字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子舆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战国中期邹国（今山东邹县东南人），离孔子的故乡曲阜不远。是著名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思想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政治家、教育家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孔子学说的继承者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儒家的重要代表人物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孟子继承和发展了孔子的德治思想，发展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仁政学说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成为其政治思想的核心。（仁政、王道）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孟子把伦理和政治紧密结合起来，强调道德修养是搞好政治的根本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24" name="Picture 4" descr="图片2"/>
          <p:cNvPicPr/>
          <p:nvPr/>
        </p:nvPicPr>
        <p:blipFill>
          <a:blip r:embed="rId2"/>
          <a:stretch/>
        </p:blipFill>
        <p:spPr>
          <a:xfrm>
            <a:off x="155520" y="907920"/>
            <a:ext cx="24019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0" y="2585880"/>
            <a:ext cx="914400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0" y="51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练习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2" name="Rectangle 5"/>
          <p:cNvSpPr/>
          <p:nvPr/>
        </p:nvSpPr>
        <p:spPr>
          <a:xfrm>
            <a:off x="0" y="1461960"/>
            <a:ext cx="9145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《得道多助　失道寡助》的中心论点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提出的著名论断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中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下面哪个词中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思相近？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道德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道歉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道路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王道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战必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根本原因是（原文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和”在文中的含义是什么？请你结合历史或现实，再举出一个相关的事例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324000" y="20574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生于忧患，死于安乐</a:t>
            </a:r>
            <a:endParaRPr b="0" lang="en-US" sz="7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67200" y="700560"/>
            <a:ext cx="366228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朗读课文、读准字音、节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说出重要词语的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能准确的翻译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、根据译文背诵课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  <a:ea typeface="隶书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Tahoma"/>
                <a:ea typeface="隶书"/>
              </a:rPr>
              <a:t>读准下列加点词的字音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畎（       ）亩     傅说（      ）    胶鬲（    ）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孙叔敖（    ）   百里奚（     ）   行拂（     ）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ahoma"/>
              </a:rPr>
              <a:t>曾（         ）益      拂（     ）士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914400" y="204156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6858000" y="19810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752480" y="32004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419720" y="318456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858000" y="318456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914400" y="44197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4114800" y="4403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1188360" y="1828800"/>
            <a:ext cx="12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quǎn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4816440" y="182880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yuè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7" name="Text Box 14"/>
          <p:cNvSpPr/>
          <p:nvPr/>
        </p:nvSpPr>
        <p:spPr>
          <a:xfrm>
            <a:off x="7620120" y="1828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e0c50"/>
                </a:solidFill>
                <a:latin typeface="Comic Sans MS"/>
              </a:rPr>
              <a:t>g</a:t>
            </a: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é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2133720" y="2971800"/>
            <a:ext cx="7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áo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5116680" y="2971800"/>
            <a:ext cx="59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xī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0" name="Text Box 17"/>
          <p:cNvSpPr/>
          <p:nvPr/>
        </p:nvSpPr>
        <p:spPr>
          <a:xfrm>
            <a:off x="7696080" y="29718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fú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1" name="Text Box 18"/>
          <p:cNvSpPr/>
          <p:nvPr/>
        </p:nvSpPr>
        <p:spPr>
          <a:xfrm>
            <a:off x="1447920" y="4191120"/>
            <a:ext cx="11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zēng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4876920" y="4191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e0c50"/>
                </a:solidFill>
                <a:latin typeface="宋体"/>
              </a:rPr>
              <a:t>bì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4251240" y="2057400"/>
            <a:ext cx="3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101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395280" y="333360"/>
            <a:ext cx="82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舜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quǎ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亩之中，傅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u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版筑之间，胶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鱼盐之中，管夷吾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，孙叔敖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海，百里奚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市，故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将降大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是人也，必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苦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心志，劳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筋骨，饿 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肤，空乏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身，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f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所为，所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动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忍性，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zē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益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所不能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恒过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能改，困于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衡于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后作；征于色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于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后喻。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无法家拂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bì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士，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无敌国外患者，国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恒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于忧患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死于安乐也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3"/>
          <p:cNvSpPr/>
          <p:nvPr/>
        </p:nvSpPr>
        <p:spPr>
          <a:xfrm>
            <a:off x="324000" y="0"/>
            <a:ext cx="88200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发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畎亩之中，傅说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版筑之间，胶鬲举于鱼盐之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管夷吾举于士，孙叔敖举于海，百里奚举于市。故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将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Arial"/>
              </a:rPr>
              <a:t>任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也，必先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心志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筋骨。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肤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空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身，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乱其所为，所以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益其所不能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324000" y="76500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起，被任用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692520" y="765000"/>
            <a:ext cx="21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被选拔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2244600" y="343224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此，这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4067280" y="3402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痛苦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5823000" y="314172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劳累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7696080" y="3141720"/>
            <a:ext cx="21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饥饿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1201680" y="4654440"/>
            <a:ext cx="16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贫困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5425920" y="46544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惊动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6918480" y="46544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Times New Roman"/>
              </a:rPr>
              <a:t>…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坚韧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5" name="Text Box 22"/>
          <p:cNvSpPr/>
          <p:nvPr/>
        </p:nvSpPr>
        <p:spPr>
          <a:xfrm>
            <a:off x="3348000" y="4654440"/>
            <a:ext cx="13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违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6" name="Text Box 23"/>
          <p:cNvSpPr/>
          <p:nvPr/>
        </p:nvSpPr>
        <p:spPr>
          <a:xfrm>
            <a:off x="324000" y="5851440"/>
            <a:ext cx="22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通“增”增加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然后能改，困于心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衡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虑而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征于色发于声而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无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法家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士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无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敌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外患者，国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亡，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知生</a:t>
            </a:r>
            <a:r>
              <a:rPr b="1" lang="zh-CN" sz="2800" spc="-1" strike="noStrike" u="sng">
                <a:solidFill>
                  <a:srgbClr val="0000cc"/>
                </a:solidFill>
                <a:uFillTx/>
                <a:latin typeface="Times New Roman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忧患而死于安乐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161928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常常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9" name="Text Box 15"/>
          <p:cNvSpPr/>
          <p:nvPr/>
        </p:nvSpPr>
        <p:spPr>
          <a:xfrm>
            <a:off x="3276720" y="1341360"/>
            <a:ext cx="38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通“横”，梗塞，不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7165800" y="1341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有所作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1" name="Text Box 17"/>
          <p:cNvSpPr/>
          <p:nvPr/>
        </p:nvSpPr>
        <p:spPr>
          <a:xfrm>
            <a:off x="3489480" y="234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了解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2" name="Text Box 19"/>
          <p:cNvSpPr/>
          <p:nvPr/>
        </p:nvSpPr>
        <p:spPr>
          <a:xfrm>
            <a:off x="5940360" y="2349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通“弼”，辅佐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3" name="Text Box 21"/>
          <p:cNvSpPr/>
          <p:nvPr/>
        </p:nvSpPr>
        <p:spPr>
          <a:xfrm>
            <a:off x="4500720" y="347508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往往 常常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4" name="Text Box 18"/>
          <p:cNvSpPr/>
          <p:nvPr/>
        </p:nvSpPr>
        <p:spPr>
          <a:xfrm>
            <a:off x="4500720" y="234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在国内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5" name="Text Box 20"/>
          <p:cNvSpPr/>
          <p:nvPr/>
        </p:nvSpPr>
        <p:spPr>
          <a:xfrm>
            <a:off x="898560" y="3429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在国外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3"/>
          <p:cNvSpPr/>
          <p:nvPr/>
        </p:nvSpPr>
        <p:spPr>
          <a:xfrm>
            <a:off x="0" y="838080"/>
            <a:ext cx="87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于</a:t>
            </a:r>
            <a:endParaRPr b="0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8" name="AutoShape 5"/>
          <p:cNvSpPr/>
          <p:nvPr/>
        </p:nvSpPr>
        <p:spPr>
          <a:xfrm>
            <a:off x="1066680" y="53352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077880" y="1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5639760" y="1433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1" name="Rectangle 8"/>
          <p:cNvSpPr/>
          <p:nvPr/>
        </p:nvSpPr>
        <p:spPr>
          <a:xfrm>
            <a:off x="7597080" y="83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5257800" y="2038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于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3" name="Rectangle 10"/>
          <p:cNvSpPr/>
          <p:nvPr/>
        </p:nvSpPr>
        <p:spPr>
          <a:xfrm>
            <a:off x="1371600" y="19224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发于畎亩  举于版筑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4" name="Rectangle 11"/>
          <p:cNvSpPr/>
          <p:nvPr/>
        </p:nvSpPr>
        <p:spPr>
          <a:xfrm>
            <a:off x="1371600" y="14954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天将降大任于是人也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2521440" y="849240"/>
            <a:ext cx="38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困于心 衡于虑 征于色 发于声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6" name="Rectangle 13"/>
          <p:cNvSpPr/>
          <p:nvPr/>
        </p:nvSpPr>
        <p:spPr>
          <a:xfrm>
            <a:off x="2050200" y="21160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生于忧患 死于安乐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228600" y="2816280"/>
            <a:ext cx="8458200" cy="764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华文新魏"/>
                <a:ea typeface="华文新魏"/>
              </a:rPr>
              <a:t>使动用法：形容词作使动词用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68" name="Text Box 15"/>
          <p:cNvSpPr/>
          <p:nvPr/>
        </p:nvSpPr>
        <p:spPr>
          <a:xfrm>
            <a:off x="76320" y="378936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苦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痛苦      劳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劳累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饿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饥饿       空乏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资财贫乏   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惊动        忍：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坚韧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10199"/>
                </a:solidFill>
                <a:latin typeface="Tahoma"/>
                <a:ea typeface="隶书"/>
              </a:rPr>
              <a:t>  </a:t>
            </a:r>
            <a:r>
              <a:rPr b="1" lang="zh-CN" sz="5400" spc="-1" strike="noStrike" u="sng">
                <a:solidFill>
                  <a:srgbClr val="010199"/>
                </a:solidFill>
                <a:uFillTx/>
                <a:latin typeface="Tahoma"/>
                <a:ea typeface="隶书"/>
              </a:rPr>
              <a:t>通假字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-73440" y="1905120"/>
            <a:ext cx="883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10199"/>
                </a:solidFill>
                <a:latin typeface="Tahoma"/>
              </a:rPr>
              <a:t>曾：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通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增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，增加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10199"/>
                </a:solidFill>
                <a:latin typeface="Tahoma"/>
              </a:rPr>
              <a:t>衡：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通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横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，堵塞，不顺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10199"/>
                </a:solidFill>
                <a:latin typeface="Tahoma"/>
              </a:rPr>
              <a:t>拂：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通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弼</a:t>
            </a:r>
            <a:r>
              <a:rPr b="1" lang="zh-CN" sz="5400" spc="-1" strike="noStrike">
                <a:solidFill>
                  <a:srgbClr val="8e0c50"/>
                </a:solidFill>
                <a:latin typeface="Arial"/>
              </a:rPr>
              <a:t>”</a:t>
            </a:r>
            <a:r>
              <a:rPr b="1" lang="zh-CN" sz="5400" spc="-1" strike="noStrike">
                <a:solidFill>
                  <a:srgbClr val="8e0c50"/>
                </a:solidFill>
                <a:latin typeface="Tahoma"/>
              </a:rPr>
              <a:t>，辅弼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-149760"/>
            <a:ext cx="854064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细读课文，思考问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2280" y="1196640"/>
            <a:ext cx="8839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课文中心论点是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课文开头列举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位名人有何用意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一个人经受磨练有何好处？（原句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课文第二段找出能分别论证“生于忧患”和“死于安乐”的句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课文使用了那些论证方法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116676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品简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26" name="Picture 4" descr="孟子寿"/>
          <p:cNvPicPr/>
          <p:nvPr/>
        </p:nvPicPr>
        <p:blipFill>
          <a:blip r:embed="rId2"/>
          <a:stretch/>
        </p:blipFill>
        <p:spPr>
          <a:xfrm>
            <a:off x="324000" y="1557360"/>
            <a:ext cx="2808000" cy="403236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5"/>
          <p:cNvSpPr/>
          <p:nvPr/>
        </p:nvSpPr>
        <p:spPr>
          <a:xfrm>
            <a:off x="3059280" y="620640"/>
            <a:ext cx="55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孟子及其门人所作，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儒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典之一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孟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记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主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录体散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其中有许多长篇大论，气势磅礴，议论尖锐、机智而雄辩，对后世的散文写作产生了深刻的影响。 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8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574" name="Oval 3"/>
          <p:cNvSpPr/>
          <p:nvPr/>
        </p:nvSpPr>
        <p:spPr>
          <a:xfrm>
            <a:off x="228600" y="304920"/>
            <a:ext cx="2438280" cy="838080"/>
          </a:xfrm>
          <a:prstGeom prst="ellipse">
            <a:avLst/>
          </a:prstGeom>
          <a:gradFill rotWithShape="0">
            <a:gsLst>
              <a:gs pos="0">
                <a:srgbClr val="eae8e2"/>
              </a:gs>
              <a:gs pos="50000">
                <a:srgbClr val="ffff99"/>
              </a:gs>
              <a:gs pos="100000">
                <a:srgbClr val="eae8e2"/>
              </a:gs>
            </a:gsLst>
            <a:lin ang="5400000"/>
          </a:gradFill>
          <a:ln w="9360">
            <a:solidFill>
              <a:srgbClr val="eae8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406a6"/>
                </a:solidFill>
                <a:latin typeface="Times New Roman"/>
                <a:ea typeface="华文新魏"/>
              </a:rPr>
              <a:t>理解课文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914400" y="1676520"/>
            <a:ext cx="2286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舜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傅说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胶鬲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管夷吾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孙叔敖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百里奚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2819520" y="9907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前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2362320" y="1600200"/>
            <a:ext cx="1447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2666880" y="1676520"/>
            <a:ext cx="1067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畎亩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版筑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鱼盐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士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海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4876920" y="10666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4724280" y="1674720"/>
            <a:ext cx="1828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君主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辅佐武王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令尹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大夫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1" name="Line 10"/>
          <p:cNvSpPr/>
          <p:nvPr/>
        </p:nvSpPr>
        <p:spPr>
          <a:xfrm>
            <a:off x="3657600" y="1981080"/>
            <a:ext cx="106668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2" name="Line 11"/>
          <p:cNvSpPr/>
          <p:nvPr/>
        </p:nvSpPr>
        <p:spPr>
          <a:xfrm>
            <a:off x="3657600" y="2666880"/>
            <a:ext cx="106668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3" name="Line 12"/>
          <p:cNvSpPr/>
          <p:nvPr/>
        </p:nvSpPr>
        <p:spPr>
          <a:xfrm>
            <a:off x="3657600" y="3429000"/>
            <a:ext cx="106668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3581280" y="4114800"/>
            <a:ext cx="106704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5" name="Line 14"/>
          <p:cNvSpPr/>
          <p:nvPr/>
        </p:nvSpPr>
        <p:spPr>
          <a:xfrm>
            <a:off x="3581280" y="4876920"/>
            <a:ext cx="106704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6" name="Line 15"/>
          <p:cNvSpPr/>
          <p:nvPr/>
        </p:nvSpPr>
        <p:spPr>
          <a:xfrm>
            <a:off x="3581280" y="5638680"/>
            <a:ext cx="1067040" cy="0"/>
          </a:xfrm>
          <a:prstGeom prst="line">
            <a:avLst/>
          </a:prstGeom>
          <a:ln w="255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6248520" y="1768320"/>
            <a:ext cx="609480" cy="3886200"/>
          </a:xfrm>
          <a:custGeom>
            <a:avLst/>
            <a:gdLst>
              <a:gd name="textAreaLeft" fmla="*/ 0 w 609480"/>
              <a:gd name="textAreaRight" fmla="*/ 219960 w 60948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8" name="Text Box 17"/>
          <p:cNvSpPr/>
          <p:nvPr/>
        </p:nvSpPr>
        <p:spPr>
          <a:xfrm>
            <a:off x="6858000" y="2057400"/>
            <a:ext cx="2286000" cy="253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举例论证人才必须在艰苦的环境中造就的道理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9" name="Rectangle 18"/>
          <p:cNvSpPr/>
          <p:nvPr/>
        </p:nvSpPr>
        <p:spPr>
          <a:xfrm>
            <a:off x="7162920" y="2057400"/>
            <a:ext cx="1371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457200" y="76212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故天将降大任于是人也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必先苦其心志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      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劳其筋骨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饿其体肤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空乏其身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行拂乱其所为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动心忍性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曾益其所不能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2" name="Rectangle 14"/>
          <p:cNvSpPr/>
          <p:nvPr/>
        </p:nvSpPr>
        <p:spPr>
          <a:xfrm>
            <a:off x="609480" y="5029200"/>
            <a:ext cx="800100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3" name="Text Box 15"/>
          <p:cNvSpPr/>
          <p:nvPr/>
        </p:nvSpPr>
        <p:spPr>
          <a:xfrm>
            <a:off x="609480" y="4876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在六个事例作为事实论据的基础上，得出结论。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5"/>
          <p:cNvSpPr/>
          <p:nvPr/>
        </p:nvSpPr>
        <p:spPr>
          <a:xfrm>
            <a:off x="0" y="685800"/>
            <a:ext cx="868680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恒过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能改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困于心衡于虑而后作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征于色发于声而后喻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入则无法家拂士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则无敌国外患者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恒亡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然后知生于忧患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而死于安乐也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8115480" y="44280"/>
            <a:ext cx="1143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人</a:t>
            </a:r>
            <a:r>
              <a:rPr b="1" lang="zh-CN" sz="3200" spc="-1" strike="noStrike">
                <a:solidFill>
                  <a:srgbClr val="00ccff"/>
                </a:solidFill>
                <a:latin typeface="华文新魏"/>
                <a:ea typeface="华文新魏"/>
              </a:rPr>
              <a:t>正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于忧患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7" name="AutoShape 14"/>
          <p:cNvSpPr/>
          <p:nvPr/>
        </p:nvSpPr>
        <p:spPr>
          <a:xfrm>
            <a:off x="7391520" y="35514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45"/>
                </a:lnTo>
                <a:cubicBezTo>
                  <a:pt x="10800" y="10145"/>
                  <a:pt x="16200" y="11045"/>
                  <a:pt x="21600" y="11045"/>
                </a:cubicBezTo>
                <a:cubicBezTo>
                  <a:pt x="16200" y="11045"/>
                  <a:pt x="10800" y="11945"/>
                  <a:pt x="10800" y="1284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8" name="Text Box 15"/>
          <p:cNvSpPr/>
          <p:nvPr/>
        </p:nvSpPr>
        <p:spPr>
          <a:xfrm>
            <a:off x="7848720" y="3213000"/>
            <a:ext cx="114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国家  </a:t>
            </a:r>
            <a:r>
              <a:rPr b="1" lang="zh-CN" sz="3200" spc="-1" strike="noStrike">
                <a:solidFill>
                  <a:srgbClr val="00ccff"/>
                </a:solidFill>
                <a:latin typeface="华文新魏"/>
                <a:ea typeface="华文新魏"/>
              </a:rPr>
              <a:t>反面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死于安乐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9" name="AutoShape 14"/>
          <p:cNvSpPr/>
          <p:nvPr/>
        </p:nvSpPr>
        <p:spPr>
          <a:xfrm>
            <a:off x="7924680" y="885960"/>
            <a:ext cx="304920" cy="914400"/>
          </a:xfrm>
          <a:custGeom>
            <a:avLst/>
            <a:gdLst>
              <a:gd name="textAreaLeft" fmla="*/ 0 w 304920"/>
              <a:gd name="textAreaRight" fmla="*/ 11016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45"/>
                </a:lnTo>
                <a:cubicBezTo>
                  <a:pt x="10800" y="10145"/>
                  <a:pt x="16200" y="11045"/>
                  <a:pt x="21600" y="11045"/>
                </a:cubicBezTo>
                <a:cubicBezTo>
                  <a:pt x="16200" y="11045"/>
                  <a:pt x="10800" y="11945"/>
                  <a:pt x="10800" y="1284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4876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仲尼厄而作《春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3" descr="孔子"/>
          <p:cNvPicPr/>
          <p:nvPr/>
        </p:nvPicPr>
        <p:blipFill>
          <a:blip r:embed="rId2"/>
          <a:stretch/>
        </p:blipFill>
        <p:spPr>
          <a:xfrm>
            <a:off x="0" y="0"/>
            <a:ext cx="3086280" cy="3809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tu1"/>
          <p:cNvPicPr/>
          <p:nvPr/>
        </p:nvPicPr>
        <p:blipFill>
          <a:blip r:embed="rId3"/>
          <a:stretch/>
        </p:blipFill>
        <p:spPr>
          <a:xfrm>
            <a:off x="5651640" y="1219320"/>
            <a:ext cx="3492360" cy="5638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韩非"/>
          <p:cNvPicPr/>
          <p:nvPr/>
        </p:nvPicPr>
        <p:blipFill>
          <a:blip r:embed="rId4"/>
          <a:stretch/>
        </p:blipFill>
        <p:spPr>
          <a:xfrm>
            <a:off x="3348000" y="2205000"/>
            <a:ext cx="2182680" cy="26668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6"/>
          <p:cNvSpPr/>
          <p:nvPr/>
        </p:nvSpPr>
        <p:spPr>
          <a:xfrm>
            <a:off x="539640" y="486900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韩非囚秦，《说难》、《孤愤》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5796000" y="1268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屈原放逐，乃赋《离骚》。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0560" y="4221000"/>
            <a:ext cx="360036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曹雪芹举家食粥而写出了不朽的《红楼梦》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3" descr="曹雪芹"/>
          <p:cNvPicPr/>
          <p:nvPr/>
        </p:nvPicPr>
        <p:blipFill>
          <a:blip r:embed="rId2"/>
          <a:stretch/>
        </p:blipFill>
        <p:spPr>
          <a:xfrm>
            <a:off x="0" y="0"/>
            <a:ext cx="3286080" cy="403848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4"/>
          <p:cNvSpPr/>
          <p:nvPr/>
        </p:nvSpPr>
        <p:spPr>
          <a:xfrm>
            <a:off x="3276720" y="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爱迪生小时候一边卖报一边作化学试验。有一次，不慎在火车上引起了火，被车长打聋了一只耳朵。由于他的刻苦努力，终于成为举世闻名的发明家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09" name="Picture 5" descr="未标题-61"/>
          <p:cNvPicPr/>
          <p:nvPr/>
        </p:nvPicPr>
        <p:blipFill>
          <a:blip r:embed="rId3"/>
          <a:stretch/>
        </p:blipFill>
        <p:spPr>
          <a:xfrm>
            <a:off x="3657600" y="2997360"/>
            <a:ext cx="5486400" cy="386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" descr="bdf"/>
          <p:cNvPicPr/>
          <p:nvPr/>
        </p:nvPicPr>
        <p:blipFill>
          <a:blip r:embed="rId3"/>
          <a:stretch/>
        </p:blipFill>
        <p:spPr>
          <a:xfrm>
            <a:off x="250920" y="476280"/>
            <a:ext cx="3882960" cy="54626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4"/>
          <p:cNvSpPr/>
          <p:nvPr/>
        </p:nvSpPr>
        <p:spPr>
          <a:xfrm>
            <a:off x="4716360" y="1268280"/>
            <a:ext cx="37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贝多芬即使在双耳失聪的情况下，仍然坚持音乐创作。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8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BD21332_"/>
          <p:cNvPicPr/>
          <p:nvPr/>
        </p:nvPicPr>
        <p:blipFill>
          <a:blip r:embed="rId1"/>
          <a:stretch/>
        </p:blipFill>
        <p:spPr>
          <a:xfrm>
            <a:off x="228600" y="6324480"/>
            <a:ext cx="8686800" cy="34308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228600" y="609480"/>
            <a:ext cx="8077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西伯拘而演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易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仲尼厄而作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秋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屈原放逐乃赋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离骚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左丘失明厥有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国语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司马迁受宫刑而著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史记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曹雪芹晚年衣食不保而留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红楼梦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6019920" y="685800"/>
            <a:ext cx="2514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6400800" y="2133720"/>
            <a:ext cx="762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2971800" y="55627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276720" y="57150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9" name="Rectangle 8"/>
          <p:cNvSpPr/>
          <p:nvPr/>
        </p:nvSpPr>
        <p:spPr>
          <a:xfrm>
            <a:off x="6019920" y="685800"/>
            <a:ext cx="2438280" cy="373392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324480" y="9907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岁寒，然后知松柏之后凋也。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396720" y="48888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学习了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生于忧患，死于安乐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，你有哪些启示？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7640" y="-33480"/>
            <a:ext cx="7543800" cy="113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习检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23640" y="110484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解释红色划线的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傅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版筑之间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故天将降大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心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虑而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出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敌国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用现代汉语写出下列句子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饿其体肤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人恒过然后能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先苦其心志，劳其筋骨，饿 其体肤，空乏其身，行拂乱其所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7619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列加点字意义和用法相同的一项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先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心志        行拂乱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困于心衡于虑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作      出淤泥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舜发于畎亩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          宋何罪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天将降大任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人也    贤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材人远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选出下列加点词词义相同的一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故天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降大任于是人也    上使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傅说举于版筑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       在乎山水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人恒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然后能改       还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岳殿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征于色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于声         野芳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幽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826920" y="2205000"/>
            <a:ext cx="756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得道多助，失道寡助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000" y="6966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作者认为一个国家走向衰败灭亡的原因是“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（用原文回答）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179280" y="333360"/>
            <a:ext cx="8763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学习目标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能够准确、流利地朗读课文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解释文中重要词语的意思，并在此基础上正确、流畅地翻译课文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自己的话说出“天时、地利、人和”、“得道多助， 失道寡助”   的含义。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1848240" y="1316520"/>
            <a:ext cx="463464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课文朗读，要求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050560" y="1197000"/>
            <a:ext cx="66834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注意朗读的节奏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注意生字词的读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0066ff"/>
                </a:solidFill>
                <a:latin typeface="楷体"/>
                <a:ea typeface="楷体"/>
              </a:rPr>
              <a:t>、初步理解课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0" y="31680"/>
            <a:ext cx="830592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时不如地利，地利不如人和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里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七里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攻之而不胜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而攻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，必有得天时者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然而不胜者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时不如地利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。城非不高也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不深也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兵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不坚利也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米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非不多也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，是地利不如人和也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1828800" y="2057400"/>
            <a:ext cx="762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838080" y="1843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内城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2781360" y="181296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外城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3657600" y="1843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围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6172200" y="179856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语气词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3505320" y="1798560"/>
            <a:ext cx="3047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9" name="Text Box 9"/>
          <p:cNvSpPr/>
          <p:nvPr/>
        </p:nvSpPr>
        <p:spPr>
          <a:xfrm>
            <a:off x="4648320" y="350532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甲衣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兵器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武器装备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5029200" y="2133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1" name="Text Box 11"/>
          <p:cNvSpPr/>
          <p:nvPr/>
        </p:nvSpPr>
        <p:spPr>
          <a:xfrm>
            <a:off x="-184320" y="4449600"/>
            <a:ext cx="296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米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谷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泛指粮食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362320" y="4449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放弃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3" name="Text Box 13"/>
          <p:cNvSpPr/>
          <p:nvPr/>
        </p:nvSpPr>
        <p:spPr>
          <a:xfrm>
            <a:off x="3505320" y="4449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离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4" name="Text Box 14"/>
          <p:cNvSpPr/>
          <p:nvPr/>
        </p:nvSpPr>
        <p:spPr>
          <a:xfrm>
            <a:off x="2476440" y="3505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护城河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5" name="Text Box 15"/>
          <p:cNvSpPr/>
          <p:nvPr/>
        </p:nvSpPr>
        <p:spPr>
          <a:xfrm>
            <a:off x="5372280" y="271296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这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6" name="Text Box 16"/>
          <p:cNvSpPr/>
          <p:nvPr/>
        </p:nvSpPr>
        <p:spPr>
          <a:xfrm>
            <a:off x="6477120" y="57150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458640" y="685800"/>
            <a:ext cx="8363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故曰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民不以封疆之界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不以山溪之险，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下不以兵革之利。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得道者多助，失道者寡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寡助之至，亲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。多助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至，天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。以天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之所顺，攻亲戚之所畔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故君子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战，战必胜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1828800" y="7621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76000" y="1203120"/>
            <a:ext cx="1600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限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5122800" y="1219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巩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257040" y="24541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威震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2" name="Text Box 7"/>
          <p:cNvSpPr/>
          <p:nvPr/>
        </p:nvSpPr>
        <p:spPr>
          <a:xfrm>
            <a:off x="2133720" y="3718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通叛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背叛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4741920" y="3718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到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6588000" y="3718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归顺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2762280" y="5929200"/>
            <a:ext cx="6059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所以君子不战则已，战就一定胜利。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5122800" y="5043600"/>
            <a:ext cx="14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么，或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92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检测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1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孟子，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代人，他是孔子以后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《孟子》是一部记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1:27:27Z</dcterms:created>
  <dc:creator>Administrator</dc:creator>
  <dc:description/>
  <cp:keywords/>
  <dc:language>en-US</dc:language>
  <cp:lastModifiedBy>zmj</cp:lastModifiedBy>
  <dcterms:modified xsi:type="dcterms:W3CDTF">2012-12-09T11:46:32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